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.jpeg" ContentType="image/jpeg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14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5.4 - </a:t>
            </a:r>
            <a:fld id="{157CFFB9-C5B9-4FB2-9C13-73991311AE27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7.wmf"/><Relationship Id="rId3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8.wmf"/><Relationship Id="rId3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5.wmf"/><Relationship Id="rId1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5.wmf"/><Relationship Id="rId2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wmf"/><Relationship Id="rId2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as a single loga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105520" y="3429000"/>
          <a:ext cx="13968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429000"/>
                    <a:ext cx="1396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85800" y="2631960"/>
            <a:ext cx="8077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46720" y="1536840"/>
          <a:ext cx="250200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46720" y="1536840"/>
                    <a:ext cx="25020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514600" y="3657600"/>
          <a:ext cx="234936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657600"/>
                    <a:ext cx="23493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105520" y="4699080"/>
          <a:ext cx="116820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4699080"/>
                    <a:ext cx="11682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pplying the Properties -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each of the following in terms of sums and differences of logarith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38080" y="2441520"/>
          <a:ext cx="186696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41520"/>
                    <a:ext cx="18669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416400" y="2397240"/>
          <a:ext cx="1993680" cy="97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6400" y="2397240"/>
                    <a:ext cx="199368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286680" y="2486160"/>
          <a:ext cx="201924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6680" y="2486160"/>
                    <a:ext cx="20192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838080" y="3657600"/>
            <a:ext cx="1866960" cy="1495440"/>
            <a:chOff x="838080" y="3657600"/>
            <a:chExt cx="1866960" cy="1495440"/>
          </a:xfrm>
        </p:grpSpPr>
        <p:sp>
          <p:nvSpPr>
            <p:cNvPr id="165" name=""/>
            <p:cNvSpPr/>
            <p:nvPr/>
          </p:nvSpPr>
          <p:spPr>
            <a:xfrm>
              <a:off x="860400" y="3657600"/>
              <a:ext cx="15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utio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6" name=""/>
            <p:cNvGraphicFramePr/>
            <p:nvPr/>
          </p:nvGraphicFramePr>
          <p:xfrm>
            <a:off x="838080" y="4264200"/>
            <a:ext cx="1866960" cy="888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8080" y="4264200"/>
                      <a:ext cx="186696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8" name=""/>
          <p:cNvGraphicFramePr/>
          <p:nvPr/>
        </p:nvGraphicFramePr>
        <p:xfrm>
          <a:off x="2959200" y="4460760"/>
          <a:ext cx="3136680" cy="54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59200" y="4460760"/>
                    <a:ext cx="31366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971800" y="5299200"/>
          <a:ext cx="38862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71800" y="5299200"/>
                    <a:ext cx="3886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971800" y="6095880"/>
          <a:ext cx="4114800" cy="406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6095880"/>
                    <a:ext cx="4114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62120" y="1587600"/>
          <a:ext cx="199368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87600"/>
                    <a:ext cx="199368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048120" y="1587600"/>
          <a:ext cx="215892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587600"/>
                    <a:ext cx="21589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048120" y="2743200"/>
          <a:ext cx="326376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2743200"/>
                    <a:ext cx="3263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5410080" y="1663560"/>
          <a:ext cx="1778040" cy="87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1663560"/>
                    <a:ext cx="177804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048120" y="3733920"/>
          <a:ext cx="439416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3733920"/>
                    <a:ext cx="43941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048120" y="4724280"/>
          <a:ext cx="3530520" cy="83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4724280"/>
                    <a:ext cx="35305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048120" y="5715000"/>
          <a:ext cx="339084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8120" y="5715000"/>
                    <a:ext cx="3390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09480" y="106668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62120" y="1676520"/>
          <a:ext cx="201924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20192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097080" y="1943280"/>
          <a:ext cx="31496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7080" y="1943280"/>
                    <a:ext cx="3149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097080" y="2971800"/>
          <a:ext cx="56660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7080" y="2971800"/>
                    <a:ext cx="5666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609480" y="106668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097080" y="3917880"/>
          <a:ext cx="51325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7080" y="3917880"/>
                    <a:ext cx="5132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097080" y="4902120"/>
          <a:ext cx="5361120" cy="40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97080" y="4902120"/>
                    <a:ext cx="53611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488600"/>
            <a:ext cx="807696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as a single loga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029200" y="1346040"/>
          <a:ext cx="37972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346040"/>
                    <a:ext cx="3797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581040" y="230040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33520" y="2895480"/>
          <a:ext cx="365760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895480"/>
                    <a:ext cx="36576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419720" y="3086280"/>
          <a:ext cx="38606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086280"/>
                    <a:ext cx="3860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419720" y="3873600"/>
          <a:ext cx="2768400" cy="93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873600"/>
                    <a:ext cx="276840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419720" y="5060880"/>
          <a:ext cx="4127400" cy="97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5060880"/>
                    <a:ext cx="412740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≈ 0.301 and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 ≈ 0.477, find each of the following,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733920"/>
            <a:ext cx="2514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92280" y="2120760"/>
          <a:ext cx="13460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120760"/>
                    <a:ext cx="1346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397320" y="1905120"/>
          <a:ext cx="14223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97320" y="1905120"/>
                    <a:ext cx="14223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6108840" y="2120760"/>
          <a:ext cx="148572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08840" y="2120760"/>
                    <a:ext cx="14857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73200" y="2743200"/>
          <a:ext cx="14349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200" y="2743200"/>
                    <a:ext cx="1434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3435480" y="2959200"/>
          <a:ext cx="1346040" cy="40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35480" y="2959200"/>
                    <a:ext cx="1346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6140520" y="2698920"/>
          <a:ext cx="1359000" cy="927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40520" y="2698920"/>
                    <a:ext cx="135900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85800" y="4419720"/>
          <a:ext cx="1346040" cy="406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" y="4419720"/>
                    <a:ext cx="1346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133720" y="4394160"/>
          <a:ext cx="175248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33720" y="4394160"/>
                    <a:ext cx="1752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962520" y="4419720"/>
          <a:ext cx="2298600" cy="406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62520" y="4419720"/>
                    <a:ext cx="22986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6464160" y="4476600"/>
          <a:ext cx="2222640" cy="292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64160" y="4476600"/>
                    <a:ext cx="22226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477120" y="5105520"/>
          <a:ext cx="1117440" cy="29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77120" y="5105520"/>
                    <a:ext cx="1117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85800" y="5638680"/>
          <a:ext cx="1422360" cy="838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85800" y="5638680"/>
                    <a:ext cx="14223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349360" y="5918040"/>
          <a:ext cx="2298960" cy="406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349360" y="5918040"/>
                    <a:ext cx="22989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857840" y="5956200"/>
          <a:ext cx="2222280" cy="2923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857840" y="5956200"/>
                    <a:ext cx="22222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7219800" y="5943600"/>
          <a:ext cx="1308240" cy="291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19800" y="5943600"/>
                    <a:ext cx="13082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85800" y="1676520"/>
          <a:ext cx="148608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1486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73200" y="2362320"/>
          <a:ext cx="14349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00" y="2362320"/>
                    <a:ext cx="1434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92280" y="4114800"/>
          <a:ext cx="134604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2280" y="4114800"/>
                    <a:ext cx="1346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762120" y="5410080"/>
          <a:ext cx="1358640" cy="92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5410080"/>
                    <a:ext cx="135864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2362320" y="1638360"/>
          <a:ext cx="12697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1638360"/>
                    <a:ext cx="1269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809880" y="1689120"/>
          <a:ext cx="1371600" cy="40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1689120"/>
                    <a:ext cx="13716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403960" y="1650960"/>
          <a:ext cx="16002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03960" y="1650960"/>
                    <a:ext cx="1600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7162920" y="1708200"/>
          <a:ext cx="1092240" cy="29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1708200"/>
                    <a:ext cx="10922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298600" y="2641680"/>
          <a:ext cx="2273400" cy="406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98600" y="2641680"/>
                    <a:ext cx="2273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4724280" y="2616120"/>
          <a:ext cx="1791000" cy="457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24280" y="2616120"/>
                    <a:ext cx="1791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2286000" y="3352680"/>
          <a:ext cx="1562040" cy="406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86000" y="3352680"/>
                    <a:ext cx="1562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019400" y="3327480"/>
          <a:ext cx="1752840" cy="457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19400" y="3327480"/>
                    <a:ext cx="1752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5931000" y="3403440"/>
          <a:ext cx="1307880" cy="292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931000" y="3403440"/>
                    <a:ext cx="13078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286000" y="4038480"/>
            <a:ext cx="6477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be found using these properties and the given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374920" y="5454720"/>
          <a:ext cx="1181160" cy="838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74920" y="5454720"/>
                    <a:ext cx="11811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733920" y="5715000"/>
          <a:ext cx="1092240" cy="304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733920" y="5715000"/>
                    <a:ext cx="10922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ressions of the Type log</a:t>
            </a:r>
            <a:r>
              <a:rPr b="0" i="1" lang="en-US" sz="3600" spc="-1" strike="noStrike" baseline="-25000">
                <a:solidFill>
                  <a:srgbClr val="3333ff"/>
                </a:solidFill>
                <a:latin typeface="Times New Roman"/>
              </a:rPr>
              <a:t>a</a:t>
            </a:r>
            <a:r>
              <a:rPr b="0" i="1" lang="en-US" sz="1000" spc="-1" strike="noStrike" baseline="-25000">
                <a:solidFill>
                  <a:srgbClr val="3333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i="1" lang="en-US" sz="3600" spc="-1" strike="noStrike" baseline="30000">
                <a:solidFill>
                  <a:srgbClr val="3333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ogarithm of a Base to a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ny real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logarithm,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 power is the power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2819520"/>
            <a:ext cx="3352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038480" y="3708360"/>
          <a:ext cx="507960" cy="2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08360"/>
                    <a:ext cx="50796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2514600" y="4578480"/>
          <a:ext cx="121932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4578480"/>
                    <a:ext cx="12193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886200" y="4578480"/>
          <a:ext cx="1333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578480"/>
                    <a:ext cx="1333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5410080" y="4673520"/>
          <a:ext cx="648000" cy="2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673520"/>
                    <a:ext cx="648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540160" y="5632560"/>
          <a:ext cx="1574640" cy="44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40160" y="5632560"/>
                    <a:ext cx="15746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4267080" y="5638680"/>
          <a:ext cx="162576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7080" y="5638680"/>
                    <a:ext cx="1625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6095880" y="5721480"/>
          <a:ext cx="685800" cy="304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5880" y="5721480"/>
                    <a:ext cx="6858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pressions of the Typ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ase to a Logarithmic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ny positive real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ised to the power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733920" y="3365640"/>
          <a:ext cx="137160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365640"/>
                    <a:ext cx="13716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5791320" y="380880"/>
          <a:ext cx="9270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80880"/>
                    <a:ext cx="927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5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Exponential and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Logarithmic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4379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1  Invers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2  Exponential 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3  Logarithmic 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4  Properties of Logarithm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  Solving Exponential and Logarithmic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6  Applications and Models: Growth and Decay; and 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819520"/>
            <a:ext cx="2514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3708360" y="3657600"/>
          <a:ext cx="5079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3657600"/>
                    <a:ext cx="5079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2336760" y="4578480"/>
          <a:ext cx="93996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6760" y="4578480"/>
                    <a:ext cx="9399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3479760" y="4622760"/>
          <a:ext cx="97812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79760" y="4622760"/>
                    <a:ext cx="9781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4699080" y="4654440"/>
          <a:ext cx="507960" cy="30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99080" y="4654440"/>
                    <a:ext cx="5079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2336760" y="5670720"/>
          <a:ext cx="130824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36760" y="5670720"/>
                    <a:ext cx="13082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860640" y="5683320"/>
          <a:ext cx="132084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60640" y="5683320"/>
                    <a:ext cx="13208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384880" y="5727600"/>
          <a:ext cx="635040" cy="292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84880" y="5727600"/>
                    <a:ext cx="6350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762120" y="1981080"/>
          <a:ext cx="1206360" cy="36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120" y="1981080"/>
                    <a:ext cx="12063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638520" y="1981080"/>
          <a:ext cx="939960" cy="36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38520" y="1981080"/>
                    <a:ext cx="9399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6197760" y="1981080"/>
          <a:ext cx="1307880" cy="36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97760" y="1981080"/>
                    <a:ext cx="13078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2336760" y="3581280"/>
          <a:ext cx="1206720" cy="36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336760" y="3581280"/>
                    <a:ext cx="12067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5.4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perties of Logarithmic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92468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from logarithms of products, powers,   and quotients to expressions in terms of individual logarithms, and convers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 expressions of the type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473960" y="3940200"/>
          <a:ext cx="83196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3960" y="3940200"/>
                    <a:ext cx="831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garithms of Produc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duct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 positive numb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y logarithmic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 logarithm of a product is the sum of the logarithms of the factors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as a single loga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257800" y="1523880"/>
          <a:ext cx="2324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523880"/>
                    <a:ext cx="2324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85440" y="245412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9200" y="3397320"/>
          <a:ext cx="22100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9200" y="3397320"/>
                    <a:ext cx="2210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800600" y="3390840"/>
          <a:ext cx="1752480" cy="54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390840"/>
                    <a:ext cx="17524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garithms of Powe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wer Ru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 positive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y logarithmic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any real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 logarithm of a powe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exponent times the logarithm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819520" y="3429000"/>
          <a:ext cx="3728880" cy="69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429000"/>
                    <a:ext cx="372888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as a produ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080" y="1787400"/>
          <a:ext cx="16765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87400"/>
                    <a:ext cx="1676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753000" y="1768320"/>
          <a:ext cx="163800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53000" y="1768320"/>
                    <a:ext cx="16380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902280" y="1832040"/>
          <a:ext cx="113040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02280" y="1832040"/>
                    <a:ext cx="1130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"/>
          <p:cNvGrpSpPr/>
          <p:nvPr/>
        </p:nvGrpSpPr>
        <p:grpSpPr>
          <a:xfrm>
            <a:off x="685800" y="2479680"/>
            <a:ext cx="8077320" cy="1060560"/>
            <a:chOff x="685800" y="2479680"/>
            <a:chExt cx="8077320" cy="1060560"/>
          </a:xfrm>
        </p:grpSpPr>
        <p:sp>
          <p:nvSpPr>
            <p:cNvPr id="117" name=""/>
            <p:cNvSpPr/>
            <p:nvPr/>
          </p:nvSpPr>
          <p:spPr>
            <a:xfrm>
              <a:off x="685800" y="2479680"/>
              <a:ext cx="80773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utio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838080" y="3083040"/>
            <a:ext cx="1676520" cy="457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8080" y="3083040"/>
                      <a:ext cx="167652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0" name=""/>
          <p:cNvGraphicFramePr/>
          <p:nvPr/>
        </p:nvGraphicFramePr>
        <p:xfrm>
          <a:off x="2743200" y="3149640"/>
          <a:ext cx="1663560" cy="40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3149640"/>
                    <a:ext cx="16635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838080" y="4038480"/>
          <a:ext cx="1638360" cy="495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4038480"/>
                    <a:ext cx="1638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743200" y="4076640"/>
          <a:ext cx="144792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43200" y="4076640"/>
                    <a:ext cx="1447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743200" y="4724280"/>
          <a:ext cx="1447920" cy="838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43200" y="4724280"/>
                    <a:ext cx="14479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838080" y="5791320"/>
          <a:ext cx="1130400" cy="36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38080" y="5791320"/>
                    <a:ext cx="1130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133720" y="5867280"/>
          <a:ext cx="1041120" cy="304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33720" y="5867280"/>
                    <a:ext cx="10411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garithms of Quotient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Quotient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positive numb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ny logarithmic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logarithm of a quotient is the logarithm of the numerator minus the logarithm of the denominator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743200" y="3200400"/>
          <a:ext cx="38862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200400"/>
                    <a:ext cx="3886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as a difference of logarith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375240" y="1295280"/>
          <a:ext cx="109224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5240" y="1295280"/>
                    <a:ext cx="1092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85800" y="2631960"/>
            <a:ext cx="8077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666880" y="3200400"/>
          <a:ext cx="9399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200400"/>
                    <a:ext cx="939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873600" y="3441600"/>
          <a:ext cx="229860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73600" y="3441600"/>
                    <a:ext cx="22986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Cathy Lovingier</cp:lastModifiedBy>
  <dcterms:modified xsi:type="dcterms:W3CDTF">2008-04-21T20:56:49Z</dcterms:modified>
  <cp:revision>208</cp:revision>
  <dc:subject/>
  <dc:title>No Slide Title</dc:title>
</cp:coreProperties>
</file>